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7EE-CA76-4DD0-A949-E941E03B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B53-1960-40B8-925B-66B2F798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95F6-FC2B-4ED4-8356-C1DCDFB3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1B9-3B8E-48D1-99ED-0A4F8485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51F8-1B54-4A76-9BBE-851D56E0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2233-3023-4706-925B-116B9891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5B8B-4C41-4979-B07C-AFD5FD65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8FC0-5667-4E6F-9F12-B9F00F27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E83D-441A-4FB2-8ACE-92CFD5D9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D594-1539-4285-9C21-0D6AF805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3318-FA44-4777-AD92-2FC413F6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FE8-74F8-4147-B196-79ADEE01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5E22-D253-4D65-9028-81F0710B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000A-E094-419F-9828-A4A098F2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2421-6DD1-4F3F-8B0F-67E0E611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F02E-2C79-48BE-909D-ABC67A62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10E0-FE82-4AB3-89A5-FD415326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D08D-5FD3-4049-9522-1C608A6B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921D-FFFB-443F-B70C-89B885BA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795-D72A-40E9-96F3-8D98AC22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E89F-0F24-4462-B706-F3D97F2C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F29-0BE0-4625-BBA6-41A3712F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0A3-BD09-4F0E-9FB4-B2218C07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373-91C2-4270-99D2-611A1B70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lvl="2" marL="1005840" indent="-200880">
              <a:spcBef>
                <a:spcPts val="901"/>
              </a:spcBef>
              <a:buClr>
                <a:srgbClr val="999933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lvl="3" marL="1407960" indent="-2008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lvl="4" marL="1810440" indent="-2008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lvl="5" marL="1810440" indent="-2008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lvl="6" marL="1810440" indent="-2008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4E70-7FB4-43F0-83E8-3426EB1F138A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5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5DDB-64A5-43C9-8C73-73F75229CE0D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999933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6699"/>
                </a:solidFill>
                <a:latin typeface="Times New Roman"/>
              </a:rPr>
              <a:t>Life of Christ – Part 2</a:t>
            </a:r>
            <a:br>
              <a:rPr sz="4800"/>
            </a:br>
            <a:r>
              <a:rPr b="0" i="1" lang="en-US" sz="4800" spc="-1" strike="noStrike">
                <a:solidFill>
                  <a:srgbClr val="336699"/>
                </a:solidFill>
                <a:latin typeface="Times New Roman"/>
              </a:rPr>
              <a:t>“Sir, We Would See Jesus”</a:t>
            </a:r>
            <a:endParaRPr b="0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Quarter 10, Lesson 14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rk 14, Matt.26; Luke 22; Joh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13-14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ages 156-161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99"/>
                </a:solidFill>
                <a:latin typeface="Times New Roman"/>
              </a:rPr>
              <a:t>Summary of Last Lesson</a:t>
            </a: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Jesus was two days away from His crucifix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He tried to tell His disciples again what was about to happe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Judas bargained with chief priests to betray Jesu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Disciples Prepared for the Last Passover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y quarreled over who would be greatest in the kingdom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Jesus washed their feet and tried to teach them that true kingdom greatness was in humility and servic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99"/>
                </a:solidFill>
                <a:latin typeface="Times New Roman"/>
              </a:rPr>
              <a:t>Judas</a:t>
            </a: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Jesus said that one would fulfill the statement in Psalm 41:9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Jesus said that this betrayal would actually give greater reason to believe in Him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he betrayer would be better off if he had never been bor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99"/>
                </a:solidFill>
                <a:latin typeface="Times New Roman"/>
              </a:rPr>
              <a:t>Warnings to the Disciples</a:t>
            </a: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Jesus must LEAVE – John 13:31-33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he disciples must LOVE each other – 13:34-35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eter must LEARN he was not as committed as he thought -36-38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Times New Roman"/>
              </a:rPr>
              <a:t>From Passover To The Lord’s Memorial Supper</a:t>
            </a:r>
            <a:endParaRPr b="1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he Passover was memorial to the Great Deliverance from Egyptian Bondag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he Lord Memorialized Two Elements After Supper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Unleavened Bread – to remember His bod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ruit of the Vine – To remember His blood of the New Testamen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se would take “new” significance in the kingdom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Jesus is our Passover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Times New Roman"/>
              </a:rPr>
              <a:t>Farewell Discourse In The Upper Room</a:t>
            </a:r>
            <a:endParaRPr b="1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nsolation: “I am going to prepare a place for you” – John 14:1-4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nversations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How do we go to the Father? -14:5-7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How can we know the Father? 14:8-21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arity, help, and revelations are ahead for the faithful apostles – 14:22-31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1787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2438280" y="762120"/>
            <a:ext cx="476280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ewing Jerusal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rom Mt. of Oliv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2695320" cy="19940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 flipV="1">
            <a:off x="2514600" y="2362320"/>
            <a:ext cx="2590920" cy="1371600"/>
          </a:xfrm>
          <a:prstGeom prst="line">
            <a:avLst/>
          </a:prstGeom>
          <a:ln w="7632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373392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Get an idea of what Jesus saw as He approached Jerusalem one last time before His crucifix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Times New Roman"/>
              </a:rPr>
              <a:t>Departing from the Upper Room</a:t>
            </a:r>
            <a:endParaRPr b="1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hey sang a hymn – Mk.14:26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robably a Psalm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Under the circumstances, which Psalm would you imagine to fit Jesus’ needs most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hich Psalm would you like if you had been one of the apostles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last nights on Mt. of Oliv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838080" y="1486080"/>
            <a:ext cx="7162920" cy="53719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746000" y="1523880"/>
            <a:ext cx="564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Kidron Valley, Mt of Olives from City of David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3808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sus Is Soon To Approach Jerusalem (After His Capture) From The Mount of Oliv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17:05:06Z</dcterms:created>
  <dc:creator>Terry W. Benton</dc:creator>
  <dc:description/>
  <dc:language>en-US</dc:language>
  <cp:lastModifiedBy>Terry W. Benton</cp:lastModifiedBy>
  <dcterms:modified xsi:type="dcterms:W3CDTF">2006-08-22T01:29:39Z</dcterms:modified>
  <cp:revision>6</cp:revision>
  <dc:subject/>
  <dc:title>Life of Christ – Part 2 “Sir, We Would See Jesus”</dc:title>
</cp:coreProperties>
</file>